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A3A-2E18-4F2A-B60C-903F2FB6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71E-04E6-4B49-8109-B72A9D2F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261-240B-4557-905B-7DD2A13B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C41-1795-4028-8BB9-8E9D83A1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8B9-EE68-4D95-A885-B9967403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FC4-D34A-4255-B1E5-AB2FFFA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24A-B3B9-4C35-AA3D-2C79DC81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8A2-0E2C-461C-99EE-7A5536CF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511-BFF7-45D3-87C2-E896223F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0F4-ACEC-44F3-8110-E0ED999D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776-F765-40B4-832C-913EB3C0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762-1DBB-49AF-A0F9-78DE1891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D56-2163-41CC-8C91-1A9728B7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Χρόνια Πολλ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λα Χριστούγεν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7574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1:20:31Z</dcterms:created>
  <dc:creator>5o DHMOTIKO AMAROUSIOU</dc:creator>
  <dc:description/>
  <dc:language>en-US</dc:language>
  <cp:lastModifiedBy>5o DHMOTIKO AMAROUSIOU</cp:lastModifiedBy>
  <dcterms:modified xsi:type="dcterms:W3CDTF">2011-12-06T11:20:42Z</dcterms:modified>
  <cp:revision>1</cp:revision>
  <dc:subject/>
  <dc:title>Χρόνια Πολλά</dc:title>
</cp:coreProperties>
</file>